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10.jpeg" ContentType="image/jpe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490B-2C23-427E-AE69-860EAEAF9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00B7-EEAE-4E44-A70E-585878A8C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9A1D38-B9D1-498E-98CB-17F1AAF3A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123199-1D69-4BA3-81D8-AD14BC74A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5235A7-2EC1-49AE-A986-951041463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E82DD8-687C-4834-B7BE-260DD5C2D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3B9CF4-9993-4C10-8A9D-91069C157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31ABE1-15CB-4621-A4F8-7CB38E7C2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D1710E-4B51-4EFB-83F2-2DCA99085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260D32-0DA6-4BA0-8A9A-93C58C823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03467E-E156-42C5-8EE9-E1C00EA85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EE4D03-BEBF-4151-A067-95EB40340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E516-081E-40C3-9D71-323A34F09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8FCA69-80DC-4B23-8752-1F2961D0B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D2970A-3C5A-450B-8E4D-2EFDAB426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DE9D2C-BAC6-49DE-913F-0400E847D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558431-FF77-43A6-9B22-22EC37176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CAB5AB-E6A5-4D13-AE9D-B92088BEC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978FDE-E265-4B3C-95CB-82E43D01C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9B458C-76E5-43ED-96F6-E1ED3A168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614B38-7A01-4131-A128-D2FEF5466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43464E-4BFF-4AA6-9BB3-73E0A1BB2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F2B7ED-7E28-404A-83ED-BAE537AB8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B694-2985-48CD-A0A4-42A77D34D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49C653-F159-427D-A629-727D8161F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9F87E2-05F3-4285-8EE5-B8C60EA5C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872D69-125F-44BF-AABC-B9A0ACD18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D84520-9DE6-4FB8-81C0-E6D10EC52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FD2AEF-683E-4E51-BBD2-0F28D80F4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BD1419-5075-41F9-8ED5-25428290D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F13B1F-3558-46BF-8F9A-D0E8448A0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64CE3C-6599-4798-8170-DB08EC30C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523277-ACB9-4DBD-8E97-FBD1E2987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1ACF80-2657-4A15-A4E6-7EC21E0CC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BB8DD-9DE7-45A7-8476-FBCE505D0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D6694E-B0C1-44A7-96B8-DED5448B3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2F2525-C0BF-4C46-893B-395C34165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5F15FB-25F7-48A7-B103-C7E0E25CC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C9F3C8-2FFA-455F-A87F-22A908375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FB4192-8780-4C84-90C5-E218856ED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27F6CC-D9DE-4E95-8A4F-BBD94D3CA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092197-E926-4EB2-A613-7E09CD6A3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E5DD37-C35F-4CA3-9B0A-3067C4A01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7C13E0-E8A5-4CB0-B084-D221BF1B6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A45652-9F5E-4EB7-AC37-044FA662C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ABF3E-93DA-41A0-8605-86DA85DEE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C89D82-43D0-457C-B3C1-2A07946F2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F19970-446F-493A-89F9-B4E32508D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9CE2D4-FCF8-49B5-87BE-1424F20FD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F11BDD-377B-414B-B71D-F1A903A34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FCCA43-F450-45DD-AB49-E7F79A573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B89AC6-255D-47CE-BC71-22063CDED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CC7BC1-E453-4019-A255-F923F6DAE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167597-B9F9-4953-950D-C1A58DA8E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C526D4-4A24-4488-AD76-4695B86D7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EC94C3-A1CA-4275-9179-6D7588B29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00C26-415B-4427-9DE2-FD9761368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B92CBE-F040-485B-A848-BA9DB89FE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72504B-896E-41B9-8359-4B99369EA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B5E9DE-77AD-4902-8D7D-8895BABC2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11DD98-0BF2-45C0-B0E9-1342D8476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C451E0-2DDE-4BB1-B0DF-B927E5872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A3655B-55AC-4FD1-8AAE-4099B8FB6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E916F8-56DC-4081-970D-21B26839A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ADF0F62-A8B3-4806-81DD-4CD632156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D800C9D-3703-495C-90A1-7EEFD0E26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5541C26-BE00-47F9-B787-F103326DA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E586D-C7C3-4049-A7A9-A7D7C4F75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07CAE22-22DB-47AC-93DF-7EA56E308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ACB5818-2519-4226-AF9D-3F78A32F8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FD5F31F-70A8-4F54-A05B-6B0BD0911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897F9C4-7A3D-4625-B139-F53849A8B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C59A5BA-C416-48FE-BD47-749207C82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DA4E6F9-0A0E-41C0-96E9-D63CCB3E0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F4A353A-6A0F-4665-9B20-4D410675A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E8ED37E-28F2-479A-B398-36E8A8554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B864ADF-FF91-44F3-A6B0-34697F372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9BC351A-1D58-46CC-9A6E-12A4A85CA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4A187-0AD8-434A-B1C8-292184A1F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6A7625A-BB16-4F7C-99CB-EA3F961A6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CAE796E-40B9-43D7-A7DA-19BA75F0F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4286C29-3FC5-4405-B7A9-5D8A9CCD1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E39972A-7817-414B-96DB-2C7225C02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878FFC5-03E6-48EC-8C0D-94B3DEBAB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32B69AE-3427-4E59-8CDA-3146236BA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0D3DCAE-508F-4082-8F3F-4FAEBDBE7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AF30C87-11A2-4695-B37C-9F2FCA888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A0AC08F-C343-4258-BE1C-AF14031C5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89B5F7C-4570-47E4-A9A8-CF96B2DAE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BA697-8983-460A-8E7D-038D1D125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C06138C-0F86-4432-9C27-B94D24F0C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305BA5C-5EF2-4EDF-8783-FAC452722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8A41D08-8732-462F-B77D-3DB693BFB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2820F5B-5639-4FFB-A586-602CA2972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32B7B1B-614C-47B0-A9DE-D53236114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35AEDEF-9CFF-4A5F-9BAE-8B994AF28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8B1760B-2219-4683-ACA5-0EC9133E4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7CF3A94-BC1E-4A49-A3DB-7C6BCEE9E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CB0059E-B42F-472A-9D48-5CD964F7F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AB082F7-A52C-417D-8FD2-A8F6678B1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EC728-9F14-488A-8B53-7546821EA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ECC0D9A-A432-4375-8D00-EDC8DCAF7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43F8557-035E-4BA5-A37C-D57AAE9DE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1E88B9B-59EC-447A-9E68-B2AA89829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235F-0A76-487E-9E2D-8ECE1AEDA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7F68A-1DE2-423C-BD84-D420DC30B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AA6CB-B74C-4B70-8220-6D9F0B89D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2C156-1F77-465F-8A69-D76A6FAC2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1B13E-D573-456A-ABE5-65A5002A9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BCE98-D674-4929-88EC-FC9EC76E2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485672-7E29-4D02-83DB-791FBDA02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28548D-8DBA-4FB7-B8F3-ADB683814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15B895-F7A0-4599-9EC3-64CE19E5C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18F9EE-BA7F-443A-A89B-A17A75E18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DC1C4B-5034-47B9-AEAD-13E7D9992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96C5-42F9-430E-843F-70D2745AB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7AAF23-045D-4A77-86C8-58A4F45EE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421AB4-CCCE-432C-81B7-4BCB2A09C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44C55F-3F20-4AEA-AE70-3D2C4F956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6A0D80-02B0-4CEA-A0D5-0A190A0A0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5632C3-004D-459F-B18E-1C103AFF4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604FE4-5B02-4ED5-82CC-1AD35A7C7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F7D6A9-B2DC-4DC5-A7BF-5A87BA1C5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233D8B-6842-4BF0-AD3B-F515B87FF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AF3BAD-4CB1-464D-AF0D-C1EB3A007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266F31-6884-4C80-A5D4-2862FFA65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8E0E-EC7B-4A51-90B1-8E7B537DB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87B6B2-D4B7-4907-8663-91FA3639A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7A7412-DF07-4380-8EDB-1FD32FB37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CD608E-3E60-42B7-A9C3-A70CEF2FF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547458-FDCD-462D-8377-DA5108601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282F57-1C4C-45FE-8BB2-2893AA4C8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FC5B85-C840-41C8-A5E8-43D8EFA4B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6B4DF3-9EFE-41B3-B2FB-FE357C9EE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398792-5F3E-41AE-B207-905872F3D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124072-AF43-43FE-9B7A-ECB0C20DC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8A62CE-6DE2-426B-9F5A-0AF430B0E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2746-AC75-47B5-9331-07F5B4CED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4C87E3-3300-4F71-A386-2AA981A07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113025-0F74-4C5F-BD76-BFD575276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583B2F-ED32-4219-B720-F3203B195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D3FC2D-FE72-4EC0-B0FF-C95B415C8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D627E4-6535-4A0B-A008-791FB8785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C1878E-EF84-450E-ABB8-97ABBA1C6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24BAD3-7FCA-4082-8A88-E4437A953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ECB1F3-1C0A-433B-99C7-4C08006D1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BE150D-C36F-4A88-BEB1-A63FC1924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F13B73-5BD7-4FC1-85D3-4224E6D8D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5CEC-4FBD-4C6C-B0E3-D4B7B8CCC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DBFFB0-CA56-4E5F-BB1F-5954C36CB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C7600A-2123-4D5D-B8F7-290DB88AE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CDA471-7497-4C12-98BA-679875719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62E56E-D640-49A3-936D-A5B7AC628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5879EB-D754-4881-8431-F8AFE9780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4A4C75-5BBE-43F0-BA3E-1F5B14851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C56D82-C5DE-40E9-B656-F117B0874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5396E1-D5E8-4E8E-B6BA-4780EC04E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8D7B75-AB2F-4D88-A1D3-3370B5616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DC24D0-23E8-4E67-BB38-447ED8247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10B7-1CDF-4067-8A7B-F20C475D7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C27EDD-E49E-4007-A8ED-E05D104EC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65ACBD-F68B-44B2-8A49-685F79F3A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A6592C-071F-4D66-9B10-0379FB546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A7A237-9ACB-44D1-9122-3CDA6E703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013C9B-6FB2-450B-8CC5-CABE4F2F7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47DCCC-7551-4BC2-8EBC-7A8D8DF7F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09E9F4-C4B4-4F87-BFD9-DBA081040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DA5500-2CA4-4985-B296-D401F6704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88E624-E908-42DC-9D45-FA3643BA3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FEB7F3-4907-496F-8BCD-A976DE0DA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7500-D177-4F19-88BA-2CDA50173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7FFD12-0124-4BDC-9179-D891C2E9B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C57D6E-26AC-4866-846A-B937E17EA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734567-2E89-4263-BCD6-3EBB2B747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9AA5B7-BC2B-4149-B8FF-A6C33623D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657287-613D-4F77-9DEF-1F2E63ABE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F08D16-DC9E-4710-A4FD-B193B2D33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2089D3-D21E-436E-A2B9-7AF6D17F9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320723-EBA0-42CF-9D71-3A04C8821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58D7ED-84BC-44C1-B8CF-8F36D5673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4D0DF8-7545-4969-8FEA-ABC213C5B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0C1D-AFBF-4FD8-870F-822B74C6B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2C085E-14EC-4F2B-B1B4-DACFAD0AE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41BDE4-52B8-4A29-8277-0F2FDA80C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20B81A-BAB0-4554-9284-174ABE9D7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6EBE3D-3105-4144-8586-AA497049A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676293-3C86-49BD-B177-F26113043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4CC737-509A-4727-8D27-AD56E2A45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F8859B-3F61-4E08-8991-00B2494B8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4085A3-C98E-451E-822B-EB14C834B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BA6BF4-9E16-47D6-96FD-DD0DEDE09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E2BBE1-53C9-4CE1-B843-29664F962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F2405-7FC1-49A4-AB41-8776E8F5AC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1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622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623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25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626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627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628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9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0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631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632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3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34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635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6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37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638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9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40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641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2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43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644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5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46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647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8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49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650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1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52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653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4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55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656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7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58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659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0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61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662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3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64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665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6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67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668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9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70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671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2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73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674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5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76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677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8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79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680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1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82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683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4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85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686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7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88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689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0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91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692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3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94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5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696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697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8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99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700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1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02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703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4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05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706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7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08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709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0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11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712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3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14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715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6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17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718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9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20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721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2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23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724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5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26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727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8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729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730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731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2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3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4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5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6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7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38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39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4FB61-B550-4ED8-A3FF-1F8B444BCF4C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 type="dt" idx="3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23F19-3117-42CA-883B-B65056E10F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dt" idx="3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sldNum" idx="3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70317-CF4D-4129-9839-A791B1C947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876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78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880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81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882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87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88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889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AF0E9-E271-4886-AEBA-94350D5FC66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6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937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39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40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941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42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943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48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4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5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 type="sldNum" idx="4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85910-F8C1-45A0-8754-354EAF42354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 type="ftr" idx="4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6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997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 type="ftr" idx="4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 type="sldNum" idx="4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35495-5C41-409B-9499-C76FE55BAA31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 type="dt" idx="4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9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060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 type="dt" idx="4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 type="sldNum" idx="4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D6CBE-9AEF-4EF4-AFB7-4EDC4D39DA98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5AE57-A9D3-4FF1-BF0A-C3F466A384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98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44DA6-EBE2-4071-BAB9-DE83C9019B6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143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dt" idx="10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ftr" idx="11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sldNum" idx="12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746CB-DD3D-4F18-B43A-11D1554084E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87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23E31-CDCD-4E34-A021-F6D622B6E38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236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EC331-24DA-4129-962D-28FAE3954C3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3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284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20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21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61C7C-0807-4F22-A83F-35151D5F4CD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4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365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01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402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278A7-9C07-4005-8E18-1641E0AE467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5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446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447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49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450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52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453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55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456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457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9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460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461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2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3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464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5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6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467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8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9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470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1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2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473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4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5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476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7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8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479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0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1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482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3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4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85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6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7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88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9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0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91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2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3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4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5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6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497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8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9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00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1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2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03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4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5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506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7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8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509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0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1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512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3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4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515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6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7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518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9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0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521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2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23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25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526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7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8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529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0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1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532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3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4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535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6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7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538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9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0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541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2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3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544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5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6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547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8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9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550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1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2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553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4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5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556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7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58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F5FF7-7849-4D1C-8F1A-6A0E5465A946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10.jpeg"/><Relationship Id="rId4" Type="http://schemas.openxmlformats.org/officeDocument/2006/relationships/hyperlink" Target="http://www.google.com/imgres?imgurl=http://www.lykhin.com/mobilephoto/wp-content/uploads/2007/11/sbsh0225.jpg&amp;imgrefurl=http://www.lykhin.com/mobilephoto/belgorod-russia-central-market/&amp;usg=__jwqR8gqz3ojPQrnDU-TKswrkg1U=&amp;h=338&amp;w=450&amp;sz=154&amp;hl=en&amp;start=2&amp;zoom=1&amp;itbs=1&amp;tbnid=Ssk1JMEe3gdh9M:&amp;tbnh=95&amp;tbnw=127&amp;prev=/images%3Fq%3Drussia%2Bmarket%26hl%3Den%26gbv%3D2%26tbs%3Disch:1" TargetMode="External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2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Snap ITC"/>
              </a:rPr>
              <a:t>Russia’s Econom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Snap ITC"/>
              </a:rPr>
              <a:t>By: Mario Ragusa, Alex Huynh, and Fiona Schmid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12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Ravie"/>
              </a:rPr>
              <a:t>Problems/Solutions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Ravie"/>
              </a:rPr>
              <a:t>Problem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avie"/>
              </a:rPr>
              <a:t>Factories focused on heavy indust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avie"/>
              </a:rPr>
              <a:t>Had older indust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Ravie"/>
              </a:rPr>
              <a:t>Solut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avie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Ravie"/>
              </a:rPr>
              <a:t>factories shifted to light indust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avie"/>
              </a:rPr>
              <a:t>High-technology industries have appear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1596960" y="3019320"/>
            <a:ext cx="308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1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1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1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Tempus Sans ITC"/>
              </a:rPr>
              <a:t>Important parts of Russia's econom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10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iller"/>
              </a:rPr>
              <a:t>Gold and fish are both found in South Eastern Russi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10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iller"/>
              </a:rPr>
              <a:t>Coal is a major resource and is found in the cold parts of Russi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10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iller"/>
              </a:rPr>
              <a:t>Russia is one of the leading oil producer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9" name="" descr=""/>
          <p:cNvPicPr/>
          <p:nvPr/>
        </p:nvPicPr>
        <p:blipFill>
          <a:blip r:embed="rId1"/>
          <a:stretch/>
        </p:blipFill>
        <p:spPr>
          <a:xfrm>
            <a:off x="4917960" y="1904760"/>
            <a:ext cx="3927600" cy="4190760"/>
          </a:xfrm>
          <a:prstGeom prst="rect">
            <a:avLst/>
          </a:prstGeom>
          <a:ln w="0">
            <a:noFill/>
          </a:ln>
        </p:spPr>
      </p:pic>
      <p:pic>
        <p:nvPicPr>
          <p:cNvPr id="1130" name="" descr=""/>
          <p:cNvPicPr/>
          <p:nvPr/>
        </p:nvPicPr>
        <p:blipFill>
          <a:blip r:embed="rId2"/>
          <a:stretch/>
        </p:blipFill>
        <p:spPr>
          <a:xfrm>
            <a:off x="4648320" y="1828800"/>
            <a:ext cx="1904760" cy="2133720"/>
          </a:xfrm>
          <a:prstGeom prst="rect">
            <a:avLst/>
          </a:prstGeom>
          <a:ln w="0">
            <a:noFill/>
          </a:ln>
        </p:spPr>
      </p:pic>
      <p:pic>
        <p:nvPicPr>
          <p:cNvPr id="1131" name="" descr=""/>
          <p:cNvPicPr/>
          <p:nvPr/>
        </p:nvPicPr>
        <p:blipFill>
          <a:blip r:embed="rId3"/>
          <a:stretch/>
        </p:blipFill>
        <p:spPr>
          <a:xfrm>
            <a:off x="4648320" y="3962520"/>
            <a:ext cx="1904760" cy="2149200"/>
          </a:xfrm>
          <a:prstGeom prst="rect">
            <a:avLst/>
          </a:prstGeom>
          <a:ln w="0">
            <a:noFill/>
          </a:ln>
        </p:spPr>
      </p:pic>
      <p:pic>
        <p:nvPicPr>
          <p:cNvPr id="1132" name="" descr=""/>
          <p:cNvPicPr/>
          <p:nvPr/>
        </p:nvPicPr>
        <p:blipFill>
          <a:blip r:embed="rId4"/>
          <a:stretch/>
        </p:blipFill>
        <p:spPr>
          <a:xfrm>
            <a:off x="6553080" y="1828800"/>
            <a:ext cx="2286000" cy="2133720"/>
          </a:xfrm>
          <a:prstGeom prst="rect">
            <a:avLst/>
          </a:prstGeom>
          <a:ln w="0">
            <a:noFill/>
          </a:ln>
        </p:spPr>
      </p:pic>
      <p:pic>
        <p:nvPicPr>
          <p:cNvPr id="1133" name="" descr=""/>
          <p:cNvPicPr/>
          <p:nvPr/>
        </p:nvPicPr>
        <p:blipFill>
          <a:blip r:embed="rId5"/>
          <a:stretch/>
        </p:blipFill>
        <p:spPr>
          <a:xfrm>
            <a:off x="6553080" y="3962520"/>
            <a:ext cx="228600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63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898" fill="hold"/>
                                        <p:tgtEl>
                                          <p:spTgt spid="1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898" fill="hold"/>
                                        <p:tgtEl>
                                          <p:spTgt spid="1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898" fill="hold"/>
                                        <p:tgtEl>
                                          <p:spTgt spid="1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Juice ITC"/>
              </a:rPr>
              <a:t>Command V.S Free Marke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901"/>
              </a:spcBef>
              <a:buClr>
                <a:srgbClr val="e3e3ff"/>
              </a:buClr>
              <a:buFont typeface="Juice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Juice ITC"/>
              </a:rPr>
              <a:t>Command controls what you sell and the price of your good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901"/>
              </a:spcBef>
              <a:buClr>
                <a:srgbClr val="e3e3ff"/>
              </a:buClr>
              <a:buFont typeface="Juice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Juice ITC"/>
              </a:rPr>
              <a:t>Command economy has impacted a few countrie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e3e3ff"/>
              </a:buClr>
              <a:buFont typeface="Juice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Juice ITC"/>
              </a:rPr>
              <a:t>Free Market lets you choose the products you sell and your pric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e3e3ff"/>
              </a:buClr>
              <a:buFont typeface="Juice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Juice ITC"/>
              </a:rPr>
              <a:t>A lot of countries have free market econom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93" dur="2000" fill="hold"/>
                                        <p:tgtEl>
                                          <p:spTgt spid="1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Russia’s type of Economy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iginally Russia had a command and globally isolated economy. There was many people in pover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day Russia is more based on free market and globally integrated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9" name="" descr=""/>
          <p:cNvPicPr/>
          <p:nvPr/>
        </p:nvPicPr>
        <p:blipFill>
          <a:blip r:embed="rId2"/>
          <a:stretch/>
        </p:blipFill>
        <p:spPr>
          <a:xfrm>
            <a:off x="301680" y="3963600"/>
            <a:ext cx="8540640" cy="2135160"/>
          </a:xfrm>
          <a:prstGeom prst="rect">
            <a:avLst/>
          </a:prstGeom>
          <a:ln w="0">
            <a:noFill/>
          </a:ln>
        </p:spPr>
      </p:pic>
      <p:pic>
        <p:nvPicPr>
          <p:cNvPr id="1140" name="" descr=""/>
          <p:cNvPicPr/>
          <p:nvPr/>
        </p:nvPicPr>
        <p:blipFill>
          <a:blip r:embed="rId3"/>
          <a:stretch/>
        </p:blipFill>
        <p:spPr>
          <a:xfrm>
            <a:off x="304920" y="3962520"/>
            <a:ext cx="4343400" cy="2133360"/>
          </a:xfrm>
          <a:prstGeom prst="rect">
            <a:avLst/>
          </a:prstGeom>
          <a:ln w="0">
            <a:noFill/>
          </a:ln>
        </p:spPr>
      </p:pic>
      <p:pic>
        <p:nvPicPr>
          <p:cNvPr id="1141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648320" y="3962520"/>
            <a:ext cx="4181400" cy="2133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1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Stencil"/>
              </a:rPr>
              <a:t>Russia’s Growth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98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Stencil"/>
              </a:rPr>
              <a:t>Russia has increased in wealth  since the economic crisis of the fall of the Soviet Union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Stencil"/>
              </a:rPr>
              <a:t>They changed from Yeltsin years to Putin years.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4" name=""/>
          <p:cNvSpPr txBox="1"/>
          <p:nvPr/>
        </p:nvSpPr>
        <p:spPr>
          <a:xfrm>
            <a:off x="4687920" y="1828800"/>
            <a:ext cx="3998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5" name="" descr=""/>
          <p:cNvPicPr/>
          <p:nvPr/>
        </p:nvPicPr>
        <p:blipFill>
          <a:blip r:embed="rId1"/>
          <a:stretch/>
        </p:blipFill>
        <p:spPr>
          <a:xfrm>
            <a:off x="4648320" y="1828800"/>
            <a:ext cx="4038480" cy="41911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stellar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Castellar"/>
              </a:rPr>
              <a:t>Important Fact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astellar"/>
              </a:rPr>
              <a:t>Getting to the materials In Russia is difficult because Serbia is mostly undeveloped because of its climat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astellar"/>
              </a:rPr>
              <a:t>Russia exports petroleum, natural gas, wood and metal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split dir="in" orient="vert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Kristen ITC"/>
              </a:rPr>
              <a:t>CREDITS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Kristen ITC"/>
              </a:rPr>
              <a:t>Designed by Alex, Mario and Fio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Kristen ITC"/>
              </a:rPr>
              <a:t>Typed by Alex, Mario and Fio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Kristen ITC"/>
              </a:rPr>
              <a:t>Research by Alex, Mario and Fio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Kristen ITC"/>
              </a:rPr>
              <a:t>Sponsored by breakfast, lunch, and dinne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5000" fill="hold"/>
                                        <p:tgtEl>
                                          <p:spTgt spid="1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5000" fill="hold"/>
                                        <p:tgtEl>
                                          <p:spTgt spid="1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5000" fill="hold"/>
                                        <p:tgtEl>
                                          <p:spTgt spid="1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5000" fill="hold"/>
                                        <p:tgtEl>
                                          <p:spTgt spid="1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5000" fill="hold"/>
                                        <p:tgtEl>
                                          <p:spTgt spid="1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5000" fill="hold"/>
                                        <p:tgtEl>
                                          <p:spTgt spid="1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5000" fill="hold"/>
                                        <p:tgtEl>
                                          <p:spTgt spid="1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5000" fill="hold"/>
                                        <p:tgtEl>
                                          <p:spTgt spid="1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5000" fill="hold"/>
                                        <p:tgtEl>
                                          <p:spTgt spid="11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5000" fill="hold"/>
                                        <p:tgtEl>
                                          <p:spTgt spid="11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09:53:25Z</dcterms:created>
  <dc:creator> </dc:creator>
  <dc:description/>
  <dc:language>en-US</dc:language>
  <cp:lastModifiedBy> </cp:lastModifiedBy>
  <dcterms:modified xsi:type="dcterms:W3CDTF">2010-12-20T14:10:06Z</dcterms:modified>
  <cp:revision>12</cp:revision>
  <dc:subject/>
  <dc:title>Russia’s Economy</dc:title>
</cp:coreProperties>
</file>